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66E-1B5E-4D08-90B4-52079C06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8EC-4EBC-4C4B-9013-73F38B1A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005-0373-49BF-9A27-17DDA31C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40A-59CC-4270-B4DD-E0FC7A0D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7C8-A799-4331-AB11-D255C3B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ABF-101D-4F37-AB66-51E47816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349-0B29-4EC8-9419-EC01E348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7D0-A0EA-4D4E-A34C-66D8D12F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B73-08A5-48EB-9C3A-D8CE3D1D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C5E-A667-485E-873D-7D567F0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043-CA4A-41BD-9427-E4F933DA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654-3A73-47EB-9EF7-90BCB0F7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8766-BE12-4801-AA18-F82A828FA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riginalslinky.com/Where-to-Buy-a-Slinky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143000"/>
            <a:ext cx="4647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link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487692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yssa Dang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mputer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linky" descr="Original Slinky"/>
          <p:cNvPicPr/>
          <p:nvPr/>
        </p:nvPicPr>
        <p:blipFill>
          <a:blip r:embed="rId1"/>
          <a:stretch/>
        </p:blipFill>
        <p:spPr>
          <a:xfrm>
            <a:off x="2590920" y="4038480"/>
            <a:ext cx="262260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019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re to Buy the Original Slinky, Original Slink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ptember20,20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riginalslinky.com/Where-to-Buy-a-Slink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124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 : Richard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: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9/23/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linky"/>
          <p:cNvPicPr/>
          <p:nvPr/>
        </p:nvPicPr>
        <p:blipFill>
          <a:blip r:embed="rId1"/>
          <a:stretch/>
        </p:blipFill>
        <p:spPr>
          <a:xfrm>
            <a:off x="457200" y="12952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5029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link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mptember19,2011, http://web.mit.edu/invent/iow/slinky.htm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9144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0400" y="754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858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inky was invented by Richard J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The Sl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linky was invented in the 19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ore that the slinky was in was a department store in Philadelp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old over 400 slinky in 9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hine was invented that could coil 80 feet of steal wire into a slinky in about 10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time of the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iversary came around the company uses the machines sold over a quarter billion slinky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linky was used for a lot of things like for school, they used to demonstrate the properties of w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1940s,the navy never took interested in the springs but after that their success in the slinky they began to find particular 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0, from playground to classroom and climbing down stairways the slinky has educate and has entertain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ichard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3 engineer Richard James of greater Philadelphia was working on a set of springs for instruments don’t get ruined when they are on board of the 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knocked down the springs accidentally he saw that the springs were flopping in a heap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6:41Z</dcterms:created>
  <dc:creator>install</dc:creator>
  <dc:description/>
  <dc:language>en-US</dc:language>
  <cp:lastModifiedBy>install</cp:lastModifiedBy>
  <dcterms:modified xsi:type="dcterms:W3CDTF">2011-09-26T13:56:42Z</dcterms:modified>
  <cp:revision>11</cp:revision>
  <dc:subject/>
  <dc:title>Slide 1</dc:title>
</cp:coreProperties>
</file>